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E97-7E25-4F60-A7B0-2CEA17F8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840-493E-46F7-89A2-5D3A0C0A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E119A-9AF1-4C6A-B716-12F234E2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0A516-E270-49AA-B9A5-6E809123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291B0-169F-486E-90A7-1480DE63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8696F-2FC4-4427-8E38-1EC7F6F1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26B29-520A-440A-A502-B2045FAE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B82CE-1832-4715-A028-C879B22E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2005D-BA4F-4AC1-8960-21A9DBB1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0A23A-8F91-450B-973F-C8DA68B3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1AEDA-49E1-4669-A6DD-6285B3AA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2FE40-0DE0-4276-8BE4-90E2BD98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40B-32E5-431F-B953-81375184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F47ED-2F6A-4F8F-B89D-7BBF78F4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51AA0-A458-4AC5-B022-D3EC7404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3C919-2945-4924-84A7-1336C844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A2BE3-FB32-4CD6-8E3E-4FFD7FDE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AD7BF-C568-41C3-A589-DE957007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E7851-8D7A-4327-B695-2627849D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65CB7-D5A6-4C79-A01D-C2658D65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1E918-9026-498C-B317-FC5B0E43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6FD99-2618-4871-81F8-9B90DE07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38B0B-11AE-4817-983F-2A28A08A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A6F-162A-43D2-B7A4-4B019155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7893D-7043-4C9A-91ED-1604C496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18339-4097-4D31-ADCB-135192F8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92680-C841-40D0-A4A5-DD6E9CBA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2EA35-E1E8-4B75-A9E8-AF48B55B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C279C-2832-4BED-9DF8-56589C88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F7EEA-03EF-4294-BB90-861BF483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6861A-2578-4043-8719-1EBD4065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18851-3553-4123-BCDE-58A7CB9D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F4543-F05D-4AF3-B6E9-82FD8548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F1FE9-674A-4834-A082-73288318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869C-CB27-4853-9082-09C3F8D4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2EE77-B074-47CC-A1F3-1EF01726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4D9EF-CE90-4EEF-849E-51ED573D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7ABDA-576F-49CC-81DF-E4E070FC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A65C5-31EF-4C52-B7E9-58C868EC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64518-FE7C-47F8-807D-10769D54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05C3A-0FA2-4056-9DB6-DC679074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B1AB9-7AC7-41D5-9E52-697D80C6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383FA-9616-4D86-96CE-C1DE0E59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E8D1B-E2F7-425A-A5DD-25658D4D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C21E0-59EB-4697-BEC9-102DC2AB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A2FB-9DD8-4E27-8BD8-0AC682BB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50D1F-0F0F-47C0-B748-F011BF09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F7823-14F6-4FF2-AE8B-63A1E638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2C090-DC39-4A98-A7E9-E7487867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170F2-5962-48D6-A8B3-30646A68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3D379-6BE0-411E-A288-9E69D363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1B74A-FC34-4DBB-9CA0-A214B476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A8588-B1F6-4504-B43F-8980FF7A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54FC4-A517-4927-8905-F70ADF7D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64AF6-53FA-49B2-931B-9BACBDCC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37318-2D32-4574-8833-03F4072B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4281-925B-4280-BB7D-3F78DB24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B1076-A23D-4F7C-ABF9-353DE161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E0599-F304-4B7E-BCB8-C64E3F45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A33E9-2B20-4713-A789-3A63A410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D2B30-1DC9-48D2-BA7D-70BDE6DE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CCD5D-B9EE-4DDF-B0A3-1EADD3DC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B1083-DA87-4728-8873-954760F2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9D4AC-75FA-4446-996E-C18E354D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C8DFB-9CF4-4E7E-98B6-64826F50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1EB85F-EF3C-4C00-9A32-A815F55F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CE02C5-0EE7-48DB-A7D3-588CFCFC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BCC1-2C21-4BED-BA74-AC3B95B1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31C5F-66F1-4E89-AF34-0E44B7DF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05291-7E6F-4FC4-93FA-2749FF1C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607542-F14B-4CDD-82B5-2AEBC409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0BBAB-A59F-4CEB-ACC5-479E27AF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307CB-061F-4760-870F-6405D065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F699B-DFEE-487B-A4E9-35DBF0CD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E9E6C-DA8F-458E-9415-9BF6274F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BB791-F675-4962-A253-84F5C259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EB524-F473-4546-8193-F59423AD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F26A71-ED3D-4634-854C-717DC13C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EF08-18EE-4793-A6BE-1248D029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E96E82-DBD8-46B5-B9A0-2500C11D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F62533-3C86-4F4F-8BE1-16371D5F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18547D-A28E-4090-9E42-B13491F4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F45D0-6F16-45EB-81DA-D43D6FA6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C641E-2F1C-431C-B437-53D42341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211263-2F84-471C-9EDA-8BC7F5C6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975F99-4147-4482-AF4A-47287EC1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04EF8C-44DA-4A8A-8A9E-6E706CDA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C0147C-2584-4B89-81B2-E7270C5C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9F81D6-1C19-4AD3-B8AC-9B19F5CF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0322-4FF6-4CF4-A025-BE90029D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14B1D-48B1-4BEA-8B7A-47520E4D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A7F40D-95F7-43F1-AA9F-76B4825D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18B970-10E4-4F9F-AA05-E3BD764F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48C06-5CFB-4D15-8338-28DE0982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807A44-65EA-4881-817A-05C5C295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1DDC52-3046-46B2-930D-AA3FAF5C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2677B-50BF-4A1B-AA06-E83FF908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9DC95-7B5B-4C92-B2D8-C6DC27DB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4CC64E-3E99-4C1A-8C57-0FE3E70C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62F864-BA9C-40C4-93EC-A1866FCB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907E-F799-4467-AA64-071B7731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F16DEC-75C3-4753-B88D-891BB8E2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4014EC-B013-48D1-B722-4F99BFE5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4587E-6B11-47FC-9645-6AC307A9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71BFC-ED82-4D65-B2BE-B7363BD4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A6EC38-B97E-4084-92C8-6E11DA46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108A33-7ECF-40DF-9B96-F845FAD5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41124-0F4B-448F-8700-567C0330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0320C-D9D0-410F-9DAD-48924837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7A92D-F92B-44C6-B582-358EC988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CA1829-B3E2-4E81-A105-99F146BF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C87-E618-4C18-AB18-CCD11EA1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E3A3-07F8-4F0D-AA48-2C85CCFF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EA1593-588B-405B-AAC7-EA8997B2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D1952E-7A52-4215-9962-6F378E94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824629-12CE-4DA5-B595-C7FF6DF5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F135E3-5795-455A-8577-A7C5ED45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E95AAF-12CE-4DFE-A22C-0F30C7BD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081E-E069-4860-9CB1-26EE01CD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D339-3AD8-45D6-96C6-9065F464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83D4-A864-40CD-A0FB-A7D26703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8FBE-1DB9-4E7F-BBE2-73C63C8F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D3AEF-67D5-4C56-8056-7F8B6E6C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B3E97-E64C-4860-9453-B0CAF7B7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E092B-9F08-494F-94F2-5CDA8829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A2EED-20B5-4C8D-A6F7-BADB1CE6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879A-D1F6-4154-9756-87BE05FD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E72-BBD2-469A-A8B2-1D15F194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0A4F8-4644-472C-8AFC-F74C270D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B112C-7854-477B-87C7-AC51D5C6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A6D90-7169-4062-B534-FC4DCDE4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3F300-2B05-45BB-ACA7-6C392718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85FAC-E553-477F-8F8B-ADFE3877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A77B5-921E-428E-9533-61F07515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7793E-284A-4260-9BB7-F78F6375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2F585-4785-4055-A1BB-168FD4B7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165B5-A1D0-47F1-AD5E-804C08EB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96AAD-1DFF-4BBE-A9B8-844F8681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D3D-8CB9-4182-9D49-324C480A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11651-BEE2-4FF8-904A-A869D097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01DD2-822C-4BED-A1B2-7E1FB4E7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0D738-42E6-4835-AAC2-3FF76C18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AE2B2-FA8F-4C08-B5B6-50774D28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1152A-35DD-42EA-BA36-091BAE81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63E05-DCC4-4C6F-A7BA-A855D008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895E9-2584-43DD-8E4F-7B41FC1E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160BD-350F-41DC-8BEB-E0BAF2DC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A76F5-D507-420A-888C-C1A3F4E4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457AA-5743-44AD-AF22-D38297E5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A80-1063-4C2B-9B8A-8A58E393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D3DCE-AFDA-4D62-9E22-1B817E35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BA822-30E4-4C73-B1C1-4D3C8912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6898C-E007-4212-AE8E-346BF595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8D929-3117-400C-A6E9-AF627356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DC2D8-F189-4882-9D75-909A9291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21003-B96D-4AA3-85FF-0458CAC8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70A36-0CF2-49A0-9A88-2697E65F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A3AA9-5E3D-447F-8EE0-015BF90E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3284E-D527-4207-BA01-3D27C267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62954-4AF2-4917-AEA6-D9F38957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A6E-1974-4E5B-9F8B-AAF9BD01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37A5E-6AA6-49E6-8211-02337819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51813-9B7A-46C4-8786-6F0BACC8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795DC-9CD1-4451-A470-06C7DE9E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67244-6A8D-432D-9C28-09522320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2FD0E-45F3-415B-8049-F8CDBF0B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20A5A-0D28-421F-B44B-7A8F8247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404A6-7296-4C84-BA07-79D09BDA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95372-670F-48EB-AEF2-89EED458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E1C3D-1EAC-491D-80CA-6814E814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00D38-8818-4A92-9FBB-4BF34465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8EF-E709-4284-8C0C-A53A24E2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D2D5E-B6CD-4F1E-82FB-E2B3A94B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99191-B85E-444C-AA78-750DE042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7DEF2-27A5-4EB6-A3C0-5F668FB8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EA167-522A-4E6E-877A-279B3C75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DBDC3-3579-4D54-B87D-ED98192D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37A1D-1781-41C5-9B22-9D1F11B3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F28AC-DFD4-4532-B20B-EACB2545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A0803-A56B-4141-82ED-D38D4875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A9A93-0C4A-4BEB-993A-327C280E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E40A2-FB4D-45F7-83EE-64D684FC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3C2-07BC-4166-857A-F9C059B0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8FAE7-423A-4478-AC1E-EFBFAE95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40BA9-047A-4398-9F0F-B016D155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8F637-026C-410B-93F3-84C6B079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8ECCE-B916-4C77-A93E-E4CC1B34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F4B48-DCFF-449D-BA20-BAA219B7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C3B08-AED1-42B8-8F45-878B408E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4FBBA-8819-4AF5-A54D-6B8E0980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34B26-A79B-4B74-A447-CC8DE755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866FC-E669-4994-A8D4-E1D1E435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A69A2-30A3-4D5E-AF04-63B188D3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9FD-4EA2-4EDC-9717-58D6A6A9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86DBC-92B7-4EBB-90AC-C8C730F4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99ADA-2014-48F8-821A-E37189E9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92F61-7629-4611-9DD1-49317A6B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0A72F-964A-4ED9-8915-150D4F21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23EC0-C1A1-411D-A3ED-C8619908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C9D79-1F41-4D6D-B163-0DBE33C6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32DAD-752C-4782-A527-53F8F41E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DEB55-4F52-48BC-B2E7-367083DB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1E659-8EEE-4C93-AB40-A52EAE16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CB39D-8B2D-4E00-8170-B4B909A0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007B-C09A-491A-9858-B5693B606CD6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317E-439A-40CA-926E-DFE7935F0F92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94D6-B921-48B9-9C33-725847410D91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07CC-9FFD-425E-BBC6-2C8C99EBEA68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46FF-A7A7-437E-83BF-7B7C01DE0319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3806-4F40-4F78-B455-1E3E4E2A493B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1259-062E-48F6-937F-9BCF54E4FC18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BE68-B3CC-4EAA-BC7C-31E07F5400D5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8D59-AF0F-41BC-880A-91AF84D5D95A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3D25-7460-4990-A9C6-B0F58C5EEE66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9DAB-535D-4D9B-B6F3-08F2F6A5AE18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A04D-3344-4F32-A8E7-285B10975E71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CDCD-A29C-4EAB-A332-74F6F5EBBAD5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93A1-D651-472D-A125-CDFA8767C45C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A967-1E0E-4255-B2A7-702FA7FC2684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D4D2-C9D0-4903-8D01-A27F90787D6A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03CF-40D0-48F1-9967-B85148515814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73120" y="29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Learning Outco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38120" y="1346040"/>
            <a:ext cx="84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raw a ray diagram to find the position, nature and size of the image produced by a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oncav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onvex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mi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274760"/>
            <a:ext cx="77724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same rules can be applied to convex mirro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convex mirror images ar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vir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5"/>
          <p:cNvSpPr/>
          <p:nvPr/>
        </p:nvSpPr>
        <p:spPr>
          <a:xfrm>
            <a:off x="1353960" y="2952720"/>
            <a:ext cx="5751720" cy="328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6" descr="j0237671"/>
          <p:cNvPicPr/>
          <p:nvPr/>
        </p:nvPicPr>
        <p:blipFill>
          <a:blip r:embed="rId1"/>
          <a:stretch/>
        </p:blipFill>
        <p:spPr>
          <a:xfrm>
            <a:off x="2065320" y="3297240"/>
            <a:ext cx="433440" cy="1527120"/>
          </a:xfrm>
          <a:prstGeom prst="rect">
            <a:avLst/>
          </a:prstGeom>
          <a:ln w="0">
            <a:noFill/>
          </a:ln>
        </p:spPr>
      </p:pic>
      <p:grpSp>
        <p:nvGrpSpPr>
          <p:cNvPr id="849" name="Group 20"/>
          <p:cNvGrpSpPr/>
          <p:nvPr/>
        </p:nvGrpSpPr>
        <p:grpSpPr>
          <a:xfrm>
            <a:off x="4754160" y="3511440"/>
            <a:ext cx="1682280" cy="2724120"/>
            <a:chOff x="4754160" y="3511440"/>
            <a:chExt cx="1682280" cy="2724120"/>
          </a:xfrm>
        </p:grpSpPr>
        <p:sp>
          <p:nvSpPr>
            <p:cNvPr id="850" name="AutoShape 9"/>
            <p:cNvSpPr/>
            <p:nvPr/>
          </p:nvSpPr>
          <p:spPr>
            <a:xfrm flipH="1">
              <a:off x="4753800" y="3727800"/>
              <a:ext cx="1567080" cy="231444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8"/>
            <p:cNvSpPr/>
            <p:nvPr/>
          </p:nvSpPr>
          <p:spPr>
            <a:xfrm flipH="1">
              <a:off x="4862520" y="3781800"/>
              <a:ext cx="1551960" cy="22147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10"/>
            <p:cNvSpPr/>
            <p:nvPr/>
          </p:nvSpPr>
          <p:spPr>
            <a:xfrm flipH="1">
              <a:off x="5542200" y="3511440"/>
              <a:ext cx="893880" cy="272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Line 11"/>
          <p:cNvSpPr/>
          <p:nvPr/>
        </p:nvSpPr>
        <p:spPr>
          <a:xfrm flipH="1">
            <a:off x="2087280" y="4835520"/>
            <a:ext cx="4327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2"/>
          <p:cNvSpPr/>
          <p:nvPr/>
        </p:nvSpPr>
        <p:spPr>
          <a:xfrm>
            <a:off x="6313320" y="4654440"/>
            <a:ext cx="190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3"/>
          <p:cNvSpPr/>
          <p:nvPr/>
        </p:nvSpPr>
        <p:spPr>
          <a:xfrm>
            <a:off x="2238480" y="3903840"/>
            <a:ext cx="2520720" cy="9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15"/>
          <p:cNvSpPr/>
          <p:nvPr/>
        </p:nvSpPr>
        <p:spPr>
          <a:xfrm>
            <a:off x="2247840" y="3868560"/>
            <a:ext cx="287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6"/>
          <p:cNvSpPr/>
          <p:nvPr/>
        </p:nvSpPr>
        <p:spPr>
          <a:xfrm flipH="1">
            <a:off x="2306160" y="4838760"/>
            <a:ext cx="2452680" cy="89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17"/>
          <p:cNvSpPr/>
          <p:nvPr/>
        </p:nvSpPr>
        <p:spPr>
          <a:xfrm>
            <a:off x="2266920" y="3911760"/>
            <a:ext cx="253692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8"/>
          <p:cNvSpPr/>
          <p:nvPr/>
        </p:nvSpPr>
        <p:spPr>
          <a:xfrm flipH="1" flipV="1">
            <a:off x="1601280" y="4419360"/>
            <a:ext cx="3225960" cy="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19" descr="j0237671"/>
          <p:cNvPicPr/>
          <p:nvPr/>
        </p:nvPicPr>
        <p:blipFill>
          <a:blip r:embed="rId2"/>
          <a:stretch/>
        </p:blipFill>
        <p:spPr>
          <a:xfrm>
            <a:off x="5737320" y="4145040"/>
            <a:ext cx="191880" cy="681120"/>
          </a:xfrm>
          <a:prstGeom prst="rect">
            <a:avLst/>
          </a:prstGeom>
          <a:ln w="0">
            <a:noFill/>
          </a:ln>
        </p:spPr>
      </p:pic>
      <p:sp>
        <p:nvSpPr>
          <p:cNvPr id="861" name="Line 21"/>
          <p:cNvSpPr/>
          <p:nvPr/>
        </p:nvSpPr>
        <p:spPr>
          <a:xfrm>
            <a:off x="5124600" y="3867120"/>
            <a:ext cx="1749240" cy="1393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22"/>
          <p:cNvSpPr/>
          <p:nvPr/>
        </p:nvSpPr>
        <p:spPr>
          <a:xfrm flipH="1" flipV="1">
            <a:off x="4141800" y="3092400"/>
            <a:ext cx="98280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23"/>
          <p:cNvSpPr/>
          <p:nvPr/>
        </p:nvSpPr>
        <p:spPr>
          <a:xfrm flipV="1">
            <a:off x="4819680" y="4416120"/>
            <a:ext cx="1947960" cy="12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24"/>
          <p:cNvSpPr/>
          <p:nvPr/>
        </p:nvSpPr>
        <p:spPr>
          <a:xfrm flipV="1">
            <a:off x="4749840" y="4133880"/>
            <a:ext cx="1768320" cy="704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22"/>
          <p:cNvSpPr/>
          <p:nvPr/>
        </p:nvSpPr>
        <p:spPr>
          <a:xfrm>
            <a:off x="1538280" y="288936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2"/>
          <p:cNvSpPr/>
          <p:nvPr/>
        </p:nvSpPr>
        <p:spPr>
          <a:xfrm>
            <a:off x="5157720" y="490860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2"/>
          <p:cNvSpPr/>
          <p:nvPr/>
        </p:nvSpPr>
        <p:spPr>
          <a:xfrm>
            <a:off x="6059520" y="443232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7680" y="-38160"/>
            <a:ext cx="777240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Plane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5" descr="j0237671"/>
          <p:cNvPicPr/>
          <p:nvPr/>
        </p:nvPicPr>
        <p:blipFill>
          <a:blip r:embed="rId1"/>
          <a:stretch/>
        </p:blipFill>
        <p:spPr>
          <a:xfrm>
            <a:off x="4064040" y="423720"/>
            <a:ext cx="581040" cy="241164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9" descr="j0238189"/>
          <p:cNvPicPr/>
          <p:nvPr/>
        </p:nvPicPr>
        <p:blipFill>
          <a:blip r:embed="rId2"/>
          <a:stretch/>
        </p:blipFill>
        <p:spPr>
          <a:xfrm rot="16200000">
            <a:off x="3305160" y="4187880"/>
            <a:ext cx="1396800" cy="7905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9" descr="j0237671"/>
          <p:cNvPicPr/>
          <p:nvPr/>
        </p:nvPicPr>
        <p:blipFill>
          <a:blip r:embed="rId3"/>
          <a:stretch/>
        </p:blipFill>
        <p:spPr>
          <a:xfrm flipH="1">
            <a:off x="7437600" y="390600"/>
            <a:ext cx="620640" cy="2577960"/>
          </a:xfrm>
          <a:prstGeom prst="rect">
            <a:avLst/>
          </a:prstGeom>
          <a:ln w="0">
            <a:noFill/>
          </a:ln>
        </p:spPr>
      </p:pic>
      <p:sp>
        <p:nvSpPr>
          <p:cNvPr id="716" name="Line 31"/>
          <p:cNvSpPr/>
          <p:nvPr/>
        </p:nvSpPr>
        <p:spPr>
          <a:xfrm>
            <a:off x="5937120" y="309600"/>
            <a:ext cx="0" cy="469584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32"/>
          <p:cNvSpPr/>
          <p:nvPr/>
        </p:nvSpPr>
        <p:spPr>
          <a:xfrm>
            <a:off x="4241880" y="1389240"/>
            <a:ext cx="1666800" cy="13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33"/>
          <p:cNvSpPr/>
          <p:nvPr/>
        </p:nvSpPr>
        <p:spPr>
          <a:xfrm flipH="1">
            <a:off x="4235400" y="2743200"/>
            <a:ext cx="1666800" cy="13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34"/>
          <p:cNvSpPr/>
          <p:nvPr/>
        </p:nvSpPr>
        <p:spPr>
          <a:xfrm flipH="1">
            <a:off x="5915160" y="1414440"/>
            <a:ext cx="1666800" cy="1325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35"/>
          <p:cNvSpPr/>
          <p:nvPr/>
        </p:nvSpPr>
        <p:spPr>
          <a:xfrm>
            <a:off x="4226040" y="1389240"/>
            <a:ext cx="1681200" cy="178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36"/>
          <p:cNvSpPr/>
          <p:nvPr/>
        </p:nvSpPr>
        <p:spPr>
          <a:xfrm flipV="1">
            <a:off x="4425840" y="3200400"/>
            <a:ext cx="1492200" cy="1603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37"/>
          <p:cNvSpPr/>
          <p:nvPr/>
        </p:nvSpPr>
        <p:spPr>
          <a:xfrm flipH="1">
            <a:off x="5945040" y="1379520"/>
            <a:ext cx="1681200" cy="178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40"/>
          <p:cNvSpPr/>
          <p:nvPr/>
        </p:nvSpPr>
        <p:spPr>
          <a:xfrm>
            <a:off x="5996160" y="326880"/>
            <a:ext cx="0" cy="4646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2"/>
          <p:cNvSpPr/>
          <p:nvPr/>
        </p:nvSpPr>
        <p:spPr>
          <a:xfrm>
            <a:off x="3525840" y="5264280"/>
            <a:ext cx="225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Light from object reflects into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43"/>
          <p:cNvSpPr/>
          <p:nvPr/>
        </p:nvSpPr>
        <p:spPr>
          <a:xfrm flipH="1">
            <a:off x="6458040" y="3203640"/>
            <a:ext cx="2419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Eye sees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ba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mage is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laterally in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39720" y="16524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Curved (Concave)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73120" y="4603680"/>
            <a:ext cx="8570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 = pole ,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a = princip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 = centre of curvature,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 = radius of curv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 = Focal point or focus,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 = foc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 = c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29"/>
          <p:cNvGrpSpPr/>
          <p:nvPr/>
        </p:nvGrpSpPr>
        <p:grpSpPr>
          <a:xfrm>
            <a:off x="731880" y="1198440"/>
            <a:ext cx="7698960" cy="2995560"/>
            <a:chOff x="731880" y="1198440"/>
            <a:chExt cx="7698960" cy="2995560"/>
          </a:xfrm>
        </p:grpSpPr>
        <p:sp>
          <p:nvSpPr>
            <p:cNvPr id="729" name="Rectangle 5"/>
            <p:cNvSpPr/>
            <p:nvPr/>
          </p:nvSpPr>
          <p:spPr>
            <a:xfrm>
              <a:off x="731880" y="1198440"/>
              <a:ext cx="7698960" cy="299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7"/>
            <p:cNvSpPr/>
            <p:nvPr/>
          </p:nvSpPr>
          <p:spPr>
            <a:xfrm>
              <a:off x="5409720" y="1353960"/>
              <a:ext cx="2079000" cy="26755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8"/>
            <p:cNvSpPr/>
            <p:nvPr/>
          </p:nvSpPr>
          <p:spPr>
            <a:xfrm>
              <a:off x="5227920" y="1489680"/>
              <a:ext cx="2100240" cy="242640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9"/>
            <p:cNvSpPr/>
            <p:nvPr/>
          </p:nvSpPr>
          <p:spPr>
            <a:xfrm>
              <a:off x="4931640" y="1274400"/>
              <a:ext cx="1557720" cy="285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0"/>
            <p:cNvSpPr/>
            <p:nvPr/>
          </p:nvSpPr>
          <p:spPr>
            <a:xfrm flipH="1">
              <a:off x="890280" y="2646720"/>
              <a:ext cx="6367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1"/>
            <p:cNvSpPr/>
            <p:nvPr/>
          </p:nvSpPr>
          <p:spPr>
            <a:xfrm>
              <a:off x="4912560" y="2545200"/>
              <a:ext cx="2340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0"/>
            <p:cNvSpPr/>
            <p:nvPr/>
          </p:nvSpPr>
          <p:spPr>
            <a:xfrm>
              <a:off x="2852640" y="2541960"/>
              <a:ext cx="2340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21"/>
            <p:cNvSpPr/>
            <p:nvPr/>
          </p:nvSpPr>
          <p:spPr>
            <a:xfrm>
              <a:off x="2562480" y="2747880"/>
              <a:ext cx="58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22"/>
            <p:cNvSpPr/>
            <p:nvPr/>
          </p:nvSpPr>
          <p:spPr>
            <a:xfrm>
              <a:off x="4548600" y="2698920"/>
              <a:ext cx="83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23"/>
            <p:cNvSpPr/>
            <p:nvPr/>
          </p:nvSpPr>
          <p:spPr>
            <a:xfrm>
              <a:off x="6718680" y="2633760"/>
              <a:ext cx="78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24"/>
            <p:cNvSpPr/>
            <p:nvPr/>
          </p:nvSpPr>
          <p:spPr>
            <a:xfrm>
              <a:off x="2856960" y="2341800"/>
              <a:ext cx="442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25"/>
            <p:cNvSpPr/>
            <p:nvPr/>
          </p:nvSpPr>
          <p:spPr>
            <a:xfrm>
              <a:off x="3172320" y="1962360"/>
              <a:ext cx="370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26"/>
            <p:cNvSpPr/>
            <p:nvPr/>
          </p:nvSpPr>
          <p:spPr>
            <a:xfrm>
              <a:off x="1004760" y="2391840"/>
              <a:ext cx="108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7"/>
            <p:cNvSpPr/>
            <p:nvPr/>
          </p:nvSpPr>
          <p:spPr>
            <a:xfrm flipV="1">
              <a:off x="4954680" y="3065040"/>
              <a:ext cx="232668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28"/>
            <p:cNvSpPr/>
            <p:nvPr/>
          </p:nvSpPr>
          <p:spPr>
            <a:xfrm>
              <a:off x="5723280" y="3052440"/>
              <a:ext cx="81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ule 1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An incident ray parallel to the pa is reflected back through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2438280" y="2913120"/>
            <a:ext cx="5005440" cy="360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7"/>
          <p:cNvGrpSpPr/>
          <p:nvPr/>
        </p:nvGrpSpPr>
        <p:grpSpPr>
          <a:xfrm>
            <a:off x="4889520" y="3435480"/>
            <a:ext cx="1601640" cy="2622240"/>
            <a:chOff x="4889520" y="3435480"/>
            <a:chExt cx="1601640" cy="2622240"/>
          </a:xfrm>
        </p:grpSpPr>
        <p:sp>
          <p:nvSpPr>
            <p:cNvPr id="748" name="AutoShape 8"/>
            <p:cNvSpPr/>
            <p:nvPr/>
          </p:nvSpPr>
          <p:spPr>
            <a:xfrm>
              <a:off x="5140080" y="3519360"/>
              <a:ext cx="1351080" cy="24559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9"/>
            <p:cNvSpPr/>
            <p:nvPr/>
          </p:nvSpPr>
          <p:spPr>
            <a:xfrm>
              <a:off x="5021640" y="3644280"/>
              <a:ext cx="1364760" cy="222804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0"/>
            <p:cNvSpPr/>
            <p:nvPr/>
          </p:nvSpPr>
          <p:spPr>
            <a:xfrm>
              <a:off x="4889520" y="3435480"/>
              <a:ext cx="778680" cy="262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Line 11"/>
          <p:cNvSpPr/>
          <p:nvPr/>
        </p:nvSpPr>
        <p:spPr>
          <a:xfrm flipH="1">
            <a:off x="2642760" y="4746600"/>
            <a:ext cx="3699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2"/>
          <p:cNvSpPr/>
          <p:nvPr/>
        </p:nvSpPr>
        <p:spPr>
          <a:xfrm>
            <a:off x="5288040" y="4570560"/>
            <a:ext cx="1404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3"/>
          <p:cNvSpPr/>
          <p:nvPr/>
        </p:nvSpPr>
        <p:spPr>
          <a:xfrm>
            <a:off x="2774880" y="3851280"/>
            <a:ext cx="328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4"/>
          <p:cNvSpPr/>
          <p:nvPr/>
        </p:nvSpPr>
        <p:spPr>
          <a:xfrm flipH="1">
            <a:off x="4493880" y="3851280"/>
            <a:ext cx="1569960" cy="185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15" descr="j0237671"/>
          <p:cNvPicPr/>
          <p:nvPr/>
        </p:nvPicPr>
        <p:blipFill>
          <a:blip r:embed="rId1"/>
          <a:stretch/>
        </p:blipFill>
        <p:spPr>
          <a:xfrm>
            <a:off x="2658960" y="3287880"/>
            <a:ext cx="306360" cy="147924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22"/>
          <p:cNvSpPr/>
          <p:nvPr/>
        </p:nvSpPr>
        <p:spPr>
          <a:xfrm>
            <a:off x="5062680" y="46990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08120" y="1663560"/>
            <a:ext cx="7510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ule 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An incident ray that passes through the focal point on the way to the mirror is reflected back parallel to the 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19"/>
          <p:cNvGrpSpPr/>
          <p:nvPr/>
        </p:nvGrpSpPr>
        <p:grpSpPr>
          <a:xfrm>
            <a:off x="1994040" y="3745080"/>
            <a:ext cx="4898880" cy="2786040"/>
            <a:chOff x="1994040" y="3745080"/>
            <a:chExt cx="4898880" cy="2786040"/>
          </a:xfrm>
        </p:grpSpPr>
        <p:sp>
          <p:nvSpPr>
            <p:cNvPr id="760" name="Rectangle 5"/>
            <p:cNvSpPr/>
            <p:nvPr/>
          </p:nvSpPr>
          <p:spPr>
            <a:xfrm>
              <a:off x="1994040" y="3745080"/>
              <a:ext cx="4898880" cy="278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1" name="Picture 14" descr="j0237671"/>
            <p:cNvPicPr/>
            <p:nvPr/>
          </p:nvPicPr>
          <p:blipFill>
            <a:blip r:embed="rId1"/>
            <a:stretch/>
          </p:blipFill>
          <p:spPr>
            <a:xfrm>
              <a:off x="2568960" y="4031640"/>
              <a:ext cx="367560" cy="113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2" name="Group 6"/>
          <p:cNvGrpSpPr/>
          <p:nvPr/>
        </p:nvGrpSpPr>
        <p:grpSpPr>
          <a:xfrm>
            <a:off x="4770360" y="4149720"/>
            <a:ext cx="1567080" cy="2028960"/>
            <a:chOff x="4770360" y="4149720"/>
            <a:chExt cx="1567080" cy="2028960"/>
          </a:xfrm>
        </p:grpSpPr>
        <p:sp>
          <p:nvSpPr>
            <p:cNvPr id="763" name="AutoShape 7"/>
            <p:cNvSpPr/>
            <p:nvPr/>
          </p:nvSpPr>
          <p:spPr>
            <a:xfrm>
              <a:off x="5015520" y="4214520"/>
              <a:ext cx="1321920" cy="190008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8"/>
            <p:cNvSpPr/>
            <p:nvPr/>
          </p:nvSpPr>
          <p:spPr>
            <a:xfrm>
              <a:off x="4899600" y="4311000"/>
              <a:ext cx="1335240" cy="172368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9"/>
            <p:cNvSpPr/>
            <p:nvPr/>
          </p:nvSpPr>
          <p:spPr>
            <a:xfrm>
              <a:off x="4770360" y="4149720"/>
              <a:ext cx="761760" cy="20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Line 10"/>
          <p:cNvSpPr/>
          <p:nvPr/>
        </p:nvSpPr>
        <p:spPr>
          <a:xfrm flipH="1">
            <a:off x="2587320" y="5176800"/>
            <a:ext cx="3686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1"/>
          <p:cNvSpPr/>
          <p:nvPr/>
        </p:nvSpPr>
        <p:spPr>
          <a:xfrm>
            <a:off x="5173560" y="5040360"/>
            <a:ext cx="1584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2"/>
          <p:cNvSpPr/>
          <p:nvPr/>
        </p:nvSpPr>
        <p:spPr>
          <a:xfrm>
            <a:off x="2716200" y="4484520"/>
            <a:ext cx="349740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3"/>
          <p:cNvSpPr/>
          <p:nvPr/>
        </p:nvSpPr>
        <p:spPr>
          <a:xfrm flipH="1" flipV="1">
            <a:off x="3242880" y="5484600"/>
            <a:ext cx="2903400" cy="1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22"/>
          <p:cNvSpPr/>
          <p:nvPr/>
        </p:nvSpPr>
        <p:spPr>
          <a:xfrm>
            <a:off x="5024520" y="46990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43040" y="16192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ule 3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An incident ray headed towards the pole reflects back at an equal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5"/>
          <p:cNvSpPr/>
          <p:nvPr/>
        </p:nvSpPr>
        <p:spPr>
          <a:xfrm>
            <a:off x="1477800" y="3411360"/>
            <a:ext cx="5034240" cy="290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6"/>
          <p:cNvGrpSpPr/>
          <p:nvPr/>
        </p:nvGrpSpPr>
        <p:grpSpPr>
          <a:xfrm>
            <a:off x="3927600" y="3817800"/>
            <a:ext cx="1611000" cy="2113200"/>
            <a:chOff x="3927600" y="3817800"/>
            <a:chExt cx="1611000" cy="2113200"/>
          </a:xfrm>
        </p:grpSpPr>
        <p:sp>
          <p:nvSpPr>
            <p:cNvPr id="775" name="AutoShape 7"/>
            <p:cNvSpPr/>
            <p:nvPr/>
          </p:nvSpPr>
          <p:spPr>
            <a:xfrm>
              <a:off x="4179600" y="3885480"/>
              <a:ext cx="1359000" cy="19789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8"/>
            <p:cNvSpPr/>
            <p:nvPr/>
          </p:nvSpPr>
          <p:spPr>
            <a:xfrm>
              <a:off x="4060440" y="3985920"/>
              <a:ext cx="1373040" cy="179532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9"/>
            <p:cNvSpPr/>
            <p:nvPr/>
          </p:nvSpPr>
          <p:spPr>
            <a:xfrm>
              <a:off x="3927600" y="3817800"/>
              <a:ext cx="78336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Line 10"/>
          <p:cNvSpPr/>
          <p:nvPr/>
        </p:nvSpPr>
        <p:spPr>
          <a:xfrm flipH="1">
            <a:off x="1684440" y="488952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1"/>
          <p:cNvSpPr/>
          <p:nvPr/>
        </p:nvSpPr>
        <p:spPr>
          <a:xfrm>
            <a:off x="4343400" y="4746600"/>
            <a:ext cx="1584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2"/>
          <p:cNvSpPr/>
          <p:nvPr/>
        </p:nvSpPr>
        <p:spPr>
          <a:xfrm>
            <a:off x="1816200" y="4167360"/>
            <a:ext cx="3627360" cy="73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3"/>
          <p:cNvSpPr/>
          <p:nvPr/>
        </p:nvSpPr>
        <p:spPr>
          <a:xfrm flipH="1">
            <a:off x="2073240" y="4898880"/>
            <a:ext cx="336888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5" descr="j0237671"/>
          <p:cNvPicPr/>
          <p:nvPr/>
        </p:nvPicPr>
        <p:blipFill>
          <a:blip r:embed="rId1"/>
          <a:stretch/>
        </p:blipFill>
        <p:spPr>
          <a:xfrm>
            <a:off x="1684440" y="3691080"/>
            <a:ext cx="384120" cy="120492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22"/>
          <p:cNvSpPr/>
          <p:nvPr/>
        </p:nvSpPr>
        <p:spPr>
          <a:xfrm>
            <a:off x="3633840" y="48322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2"/>
          <p:cNvSpPr/>
          <p:nvPr/>
        </p:nvSpPr>
        <p:spPr>
          <a:xfrm>
            <a:off x="5329080" y="466092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165240" y="603000"/>
            <a:ext cx="9169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three combined allow you to find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this example the image is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nverte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diminishe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6"/>
          <p:cNvSpPr/>
          <p:nvPr/>
        </p:nvSpPr>
        <p:spPr>
          <a:xfrm>
            <a:off x="1487520" y="3076560"/>
            <a:ext cx="6026040" cy="333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7" descr="j0237671"/>
          <p:cNvPicPr/>
          <p:nvPr/>
        </p:nvPicPr>
        <p:blipFill>
          <a:blip r:embed="rId1"/>
          <a:stretch/>
        </p:blipFill>
        <p:spPr>
          <a:xfrm>
            <a:off x="2195640" y="3419640"/>
            <a:ext cx="452160" cy="1361880"/>
          </a:xfrm>
          <a:prstGeom prst="rect">
            <a:avLst/>
          </a:prstGeom>
          <a:ln w="0">
            <a:noFill/>
          </a:ln>
        </p:spPr>
      </p:pic>
      <p:grpSp>
        <p:nvGrpSpPr>
          <p:cNvPr id="788" name="Group 8"/>
          <p:cNvGrpSpPr/>
          <p:nvPr/>
        </p:nvGrpSpPr>
        <p:grpSpPr>
          <a:xfrm>
            <a:off x="4902120" y="3560760"/>
            <a:ext cx="1928520" cy="2428560"/>
            <a:chOff x="4902120" y="3560760"/>
            <a:chExt cx="1928520" cy="2428560"/>
          </a:xfrm>
        </p:grpSpPr>
        <p:sp>
          <p:nvSpPr>
            <p:cNvPr id="789" name="AutoShape 9"/>
            <p:cNvSpPr/>
            <p:nvPr/>
          </p:nvSpPr>
          <p:spPr>
            <a:xfrm>
              <a:off x="5203800" y="3638520"/>
              <a:ext cx="1626840" cy="227448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AutoShape 10"/>
            <p:cNvSpPr/>
            <p:nvPr/>
          </p:nvSpPr>
          <p:spPr>
            <a:xfrm>
              <a:off x="5061240" y="3754080"/>
              <a:ext cx="1643400" cy="206352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1"/>
            <p:cNvSpPr/>
            <p:nvPr/>
          </p:nvSpPr>
          <p:spPr>
            <a:xfrm>
              <a:off x="4902120" y="3560760"/>
              <a:ext cx="937800" cy="242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Line 12"/>
          <p:cNvSpPr/>
          <p:nvPr/>
        </p:nvSpPr>
        <p:spPr>
          <a:xfrm flipH="1">
            <a:off x="2217240" y="4791240"/>
            <a:ext cx="4534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3"/>
          <p:cNvSpPr/>
          <p:nvPr/>
        </p:nvSpPr>
        <p:spPr>
          <a:xfrm>
            <a:off x="4699080" y="4641840"/>
            <a:ext cx="19080" cy="32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4"/>
          <p:cNvSpPr/>
          <p:nvPr/>
        </p:nvSpPr>
        <p:spPr>
          <a:xfrm>
            <a:off x="2374920" y="3960720"/>
            <a:ext cx="4102200" cy="148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5"/>
          <p:cNvSpPr/>
          <p:nvPr/>
        </p:nvSpPr>
        <p:spPr>
          <a:xfrm flipH="1" flipV="1">
            <a:off x="2344320" y="5438880"/>
            <a:ext cx="4071960" cy="1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6"/>
          <p:cNvSpPr/>
          <p:nvPr/>
        </p:nvSpPr>
        <p:spPr>
          <a:xfrm>
            <a:off x="2386080" y="3952800"/>
            <a:ext cx="394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7"/>
          <p:cNvSpPr/>
          <p:nvPr/>
        </p:nvSpPr>
        <p:spPr>
          <a:xfrm flipH="1">
            <a:off x="2768400" y="3952800"/>
            <a:ext cx="3562200" cy="185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8"/>
          <p:cNvSpPr/>
          <p:nvPr/>
        </p:nvSpPr>
        <p:spPr>
          <a:xfrm>
            <a:off x="2386080" y="3952800"/>
            <a:ext cx="426564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9"/>
          <p:cNvSpPr/>
          <p:nvPr/>
        </p:nvSpPr>
        <p:spPr>
          <a:xfrm flipH="1">
            <a:off x="2525400" y="4791240"/>
            <a:ext cx="4125960" cy="82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32" descr="j0237671"/>
          <p:cNvPicPr/>
          <p:nvPr/>
        </p:nvPicPr>
        <p:blipFill>
          <a:blip r:embed="rId2"/>
          <a:stretch/>
        </p:blipFill>
        <p:spPr>
          <a:xfrm flipH="1" rot="10800000">
            <a:off x="3371760" y="4797360"/>
            <a:ext cx="358920" cy="107640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2"/>
          <p:cNvSpPr/>
          <p:nvPr/>
        </p:nvSpPr>
        <p:spPr>
          <a:xfrm>
            <a:off x="4224240" y="433692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2"/>
          <p:cNvSpPr/>
          <p:nvPr/>
        </p:nvSpPr>
        <p:spPr>
          <a:xfrm>
            <a:off x="6643800" y="458460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2"/>
          <p:cNvSpPr/>
          <p:nvPr/>
        </p:nvSpPr>
        <p:spPr>
          <a:xfrm>
            <a:off x="1633680" y="30416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2"/>
          <p:cNvSpPr/>
          <p:nvPr/>
        </p:nvSpPr>
        <p:spPr>
          <a:xfrm>
            <a:off x="2871720" y="586116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oncave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ncave (or converging)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irrors focus light at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23"/>
          <p:cNvSpPr/>
          <p:nvPr/>
        </p:nvSpPr>
        <p:spPr>
          <a:xfrm>
            <a:off x="700200" y="2724120"/>
            <a:ext cx="7699320" cy="32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8"/>
          <p:cNvGrpSpPr/>
          <p:nvPr/>
        </p:nvGrpSpPr>
        <p:grpSpPr>
          <a:xfrm>
            <a:off x="4470480" y="3198960"/>
            <a:ext cx="2463480" cy="2391840"/>
            <a:chOff x="4470480" y="3198960"/>
            <a:chExt cx="2463480" cy="2391840"/>
          </a:xfrm>
        </p:grpSpPr>
        <p:sp>
          <p:nvSpPr>
            <p:cNvPr id="809" name="AutoShape 9"/>
            <p:cNvSpPr/>
            <p:nvPr/>
          </p:nvSpPr>
          <p:spPr>
            <a:xfrm>
              <a:off x="4855680" y="3275640"/>
              <a:ext cx="2078280" cy="224028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4673880" y="3389400"/>
              <a:ext cx="2099160" cy="203220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1"/>
            <p:cNvSpPr/>
            <p:nvPr/>
          </p:nvSpPr>
          <p:spPr>
            <a:xfrm>
              <a:off x="4470480" y="3198960"/>
              <a:ext cx="1197720" cy="239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12"/>
          <p:cNvSpPr/>
          <p:nvPr/>
        </p:nvSpPr>
        <p:spPr>
          <a:xfrm flipH="1">
            <a:off x="1015560" y="4394160"/>
            <a:ext cx="5689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3"/>
          <p:cNvSpPr/>
          <p:nvPr/>
        </p:nvSpPr>
        <p:spPr>
          <a:xfrm>
            <a:off x="5600880" y="4205160"/>
            <a:ext cx="2376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4"/>
          <p:cNvSpPr/>
          <p:nvPr/>
        </p:nvSpPr>
        <p:spPr>
          <a:xfrm>
            <a:off x="1197000" y="3957480"/>
            <a:ext cx="54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5"/>
          <p:cNvSpPr/>
          <p:nvPr/>
        </p:nvSpPr>
        <p:spPr>
          <a:xfrm>
            <a:off x="1219320" y="3578400"/>
            <a:ext cx="50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6"/>
          <p:cNvSpPr/>
          <p:nvPr/>
        </p:nvSpPr>
        <p:spPr>
          <a:xfrm>
            <a:off x="1241280" y="4830840"/>
            <a:ext cx="537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7"/>
          <p:cNvSpPr/>
          <p:nvPr/>
        </p:nvSpPr>
        <p:spPr>
          <a:xfrm>
            <a:off x="1195560" y="5210280"/>
            <a:ext cx="513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9"/>
          <p:cNvSpPr/>
          <p:nvPr/>
        </p:nvSpPr>
        <p:spPr>
          <a:xfrm flipH="1">
            <a:off x="4584240" y="3578400"/>
            <a:ext cx="1693800" cy="193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0"/>
          <p:cNvSpPr/>
          <p:nvPr/>
        </p:nvSpPr>
        <p:spPr>
          <a:xfrm flipH="1">
            <a:off x="4019040" y="3940200"/>
            <a:ext cx="259740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21"/>
          <p:cNvSpPr/>
          <p:nvPr/>
        </p:nvSpPr>
        <p:spPr>
          <a:xfrm flipH="1" flipV="1">
            <a:off x="4087800" y="3711240"/>
            <a:ext cx="255096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2"/>
          <p:cNvSpPr/>
          <p:nvPr/>
        </p:nvSpPr>
        <p:spPr>
          <a:xfrm flipH="1" flipV="1">
            <a:off x="4560480" y="3141720"/>
            <a:ext cx="1738440" cy="206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22"/>
          <p:cNvSpPr/>
          <p:nvPr/>
        </p:nvSpPr>
        <p:spPr>
          <a:xfrm>
            <a:off x="5214960" y="37846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542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onvex Mirror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23960" y="1085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vex mirrors have a focal point behind the 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vex (or diverging) mirrors spread the light rays apart so that they appear to have come from the focal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24"/>
          <p:cNvSpPr/>
          <p:nvPr/>
        </p:nvSpPr>
        <p:spPr>
          <a:xfrm>
            <a:off x="2023920" y="3657600"/>
            <a:ext cx="5088240" cy="290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4669920" y="4363920"/>
            <a:ext cx="1616400" cy="1600200"/>
            <a:chOff x="4669920" y="4363920"/>
            <a:chExt cx="1616400" cy="1600200"/>
          </a:xfrm>
        </p:grpSpPr>
        <p:sp>
          <p:nvSpPr>
            <p:cNvPr id="827" name="AutoShape 5"/>
            <p:cNvSpPr/>
            <p:nvPr/>
          </p:nvSpPr>
          <p:spPr>
            <a:xfrm flipH="1">
              <a:off x="4669560" y="4479480"/>
              <a:ext cx="1567080" cy="135972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6"/>
            <p:cNvSpPr/>
            <p:nvPr/>
          </p:nvSpPr>
          <p:spPr>
            <a:xfrm flipH="1">
              <a:off x="4767840" y="4581720"/>
              <a:ext cx="1349280" cy="118116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7"/>
            <p:cNvSpPr/>
            <p:nvPr/>
          </p:nvSpPr>
          <p:spPr>
            <a:xfrm flipH="1">
              <a:off x="5392080" y="4363920"/>
              <a:ext cx="89424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Line 8"/>
          <p:cNvSpPr/>
          <p:nvPr/>
        </p:nvSpPr>
        <p:spPr>
          <a:xfrm>
            <a:off x="2075040" y="5156280"/>
            <a:ext cx="4884480" cy="12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9"/>
          <p:cNvSpPr/>
          <p:nvPr/>
        </p:nvSpPr>
        <p:spPr>
          <a:xfrm>
            <a:off x="2309760" y="4876920"/>
            <a:ext cx="24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0"/>
          <p:cNvSpPr/>
          <p:nvPr/>
        </p:nvSpPr>
        <p:spPr>
          <a:xfrm>
            <a:off x="2292480" y="4584600"/>
            <a:ext cx="269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1"/>
          <p:cNvSpPr/>
          <p:nvPr/>
        </p:nvSpPr>
        <p:spPr>
          <a:xfrm>
            <a:off x="2360520" y="5410080"/>
            <a:ext cx="232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2"/>
          <p:cNvSpPr/>
          <p:nvPr/>
        </p:nvSpPr>
        <p:spPr>
          <a:xfrm>
            <a:off x="2327400" y="5715000"/>
            <a:ext cx="26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3"/>
          <p:cNvSpPr/>
          <p:nvPr/>
        </p:nvSpPr>
        <p:spPr>
          <a:xfrm>
            <a:off x="6151680" y="5041800"/>
            <a:ext cx="17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4"/>
          <p:cNvSpPr/>
          <p:nvPr/>
        </p:nvSpPr>
        <p:spPr>
          <a:xfrm>
            <a:off x="4971960" y="4584600"/>
            <a:ext cx="1179720" cy="571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5"/>
          <p:cNvSpPr/>
          <p:nvPr/>
        </p:nvSpPr>
        <p:spPr>
          <a:xfrm>
            <a:off x="4719600" y="4876920"/>
            <a:ext cx="1432080" cy="279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16"/>
          <p:cNvSpPr/>
          <p:nvPr/>
        </p:nvSpPr>
        <p:spPr>
          <a:xfrm flipV="1">
            <a:off x="4719600" y="5155920"/>
            <a:ext cx="1432080" cy="25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7"/>
          <p:cNvSpPr/>
          <p:nvPr/>
        </p:nvSpPr>
        <p:spPr>
          <a:xfrm flipV="1">
            <a:off x="5006880" y="5156280"/>
            <a:ext cx="1144800" cy="55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9"/>
          <p:cNvSpPr/>
          <p:nvPr/>
        </p:nvSpPr>
        <p:spPr>
          <a:xfrm flipH="1" flipV="1">
            <a:off x="3404880" y="3809880"/>
            <a:ext cx="1601640" cy="78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0"/>
          <p:cNvSpPr/>
          <p:nvPr/>
        </p:nvSpPr>
        <p:spPr>
          <a:xfrm flipH="1" flipV="1">
            <a:off x="2612520" y="4419720"/>
            <a:ext cx="214020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21"/>
          <p:cNvSpPr/>
          <p:nvPr/>
        </p:nvSpPr>
        <p:spPr>
          <a:xfrm flipH="1">
            <a:off x="2495160" y="5397480"/>
            <a:ext cx="225756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22"/>
          <p:cNvSpPr/>
          <p:nvPr/>
        </p:nvSpPr>
        <p:spPr>
          <a:xfrm flipH="1">
            <a:off x="3641400" y="5676840"/>
            <a:ext cx="1398600" cy="66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2"/>
          <p:cNvSpPr/>
          <p:nvPr/>
        </p:nvSpPr>
        <p:spPr>
          <a:xfrm>
            <a:off x="5919840" y="46990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0:23Z</dcterms:created>
  <dc:creator>Cashmere High School</dc:creator>
  <dc:description/>
  <dc:language>en-US</dc:language>
  <cp:lastModifiedBy>Leith</cp:lastModifiedBy>
  <cp:lastPrinted>2003-11-11T21:01:29Z</cp:lastPrinted>
  <dcterms:modified xsi:type="dcterms:W3CDTF">2012-03-12T08:28:16Z</dcterms:modified>
  <cp:revision>44</cp:revision>
  <dc:subject/>
  <dc:title>Light &amp; Waves</dc:title>
</cp:coreProperties>
</file>